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3B4F-2012-4402-9D29-C71511033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6414-7E1D-4F7A-B8F6-C93086E18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C146-B177-4930-9C5F-D589A27E2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8897-484F-4E33-83BB-B160C0715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E12D-6C00-4242-87C3-DA2EDC515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7A36-F3A0-4D47-B941-1694BA255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5A4B-8569-42D8-9B04-DD4806251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F3B7-CEA5-4ED1-958E-2728EBA40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A51A-7D54-4FF1-AF41-0C9463F28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ADFB-2E69-4E45-810F-AE0E8B1E8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620D-EBD5-4617-89D7-43DA70D55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0B97-585C-4201-BB5B-A6920B9F7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081D3-174D-4201-9010-B62848FFC4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1533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37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Stencil"/>
              </a:rPr>
              <a:t>Destruction on the horiz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ndy"/>
              </a:rPr>
              <a:t>By: Candace Fairclo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ndy"/>
              </a:rPr>
              <a:t>Music; Adagio For Strings (Platoon) by London Festival Orches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990720"/>
            <a:ext cx="8534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762120"/>
            <a:ext cx="8077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-304920"/>
            <a:ext cx="9524880" cy="71629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562720" y="1219320"/>
            <a:ext cx="35812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pyrus"/>
              </a:rPr>
              <a:t>Sirens approach from the distance and lights swing like haloes cutting like daggers through black ra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-228600" y="0"/>
            <a:ext cx="9601200" cy="74167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0" y="1219320"/>
            <a:ext cx="6934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pyrus"/>
              </a:rPr>
              <a:t>Smoke and ash clung to my esophagu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200" y="1828800"/>
            <a:ext cx="34290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pyrus"/>
              </a:rPr>
              <a:t>desperately awaiting its turn to circulate my lun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24880" cy="73119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990720" y="495288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I steadied myself 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09680" y="5410080"/>
            <a:ext cx="3657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the ship pummel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267080" y="5791320"/>
            <a:ext cx="21337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the sandy sh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372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304920" y="228600"/>
            <a:ext cx="8534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pyrus"/>
              </a:rPr>
              <a:t>This was never my idea of a vacation. I’m sure the bodies coasting on wavelengths would have agre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865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981080" y="380880"/>
            <a:ext cx="640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pyrus"/>
              </a:rPr>
              <a:t>My last prayer as my boots sunk deep into the sand wa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666880" y="609480"/>
            <a:ext cx="3691080" cy="49532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143000" y="5791320"/>
            <a:ext cx="685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Papyrus"/>
              </a:rPr>
              <a:t>  </a:t>
            </a:r>
            <a:r>
              <a:rPr b="0" lang="en-US" sz="4800" spc="-1" strike="noStrike">
                <a:solidFill>
                  <a:srgbClr val="ffffff"/>
                </a:solidFill>
                <a:latin typeface="Papyrus"/>
              </a:rPr>
              <a:t>"bring me back to Ruth."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fad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20" dur="2000" fill="hold"/>
                                        <p:tgtEl>
                                          <p:spTgt spid="8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6705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57200" y="2666880"/>
            <a:ext cx="8153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30492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pyrus"/>
              </a:rPr>
              <a:t>Salty mi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09680" y="30492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pyrus"/>
              </a:rPr>
              <a:t>ghost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62520" y="304920"/>
            <a:ext cx="350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pyrus"/>
              </a:rPr>
              <a:t>over my f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914400"/>
            <a:ext cx="79250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Papyrus"/>
              </a:rPr>
              <a:t>as the ship barreled through   too calm sea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-101520" y="14367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50" autoRev="1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7" dur="250" autoRev="1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" dur="250" autoRev="1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114300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Standing on deck, I watched clouds of smoke build   </a:t>
            </a: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                 </a:t>
            </a:r>
            <a:r>
              <a:rPr b="0" i="1" lang="en-US" sz="3200" spc="-1" strike="noStrike">
                <a:solidFill>
                  <a:srgbClr val="ffffff"/>
                </a:solidFill>
                <a:latin typeface="Papyrus"/>
              </a:rPr>
              <a:t>skyscraper silhouettes</a:t>
            </a: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 over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676520" y="2286000"/>
            <a:ext cx="5029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Papyrus"/>
              </a:rPr>
              <a:t>desolate island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0" y="762120"/>
            <a:ext cx="457200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Papyrus"/>
              </a:rPr>
              <a:t>The “birdies” with their bombs shattered our precious Pearl</a:t>
            </a:r>
            <a:r>
              <a:rPr b="1" lang="en-US" sz="4000" spc="-1" strike="noStrike">
                <a:solidFill>
                  <a:srgbClr val="ffffff"/>
                </a:solidFill>
                <a:latin typeface="Papyrus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209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0" y="304920"/>
            <a:ext cx="7924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apyrus"/>
              </a:rPr>
              <a:t>The air came in waves of       sickness and despair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752480"/>
            <a:ext cx="49528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pyrus"/>
              </a:rPr>
              <a:t>trapping all that sto</a:t>
            </a:r>
            <a:r>
              <a:rPr b="0" lang="en-US" sz="4000" spc="-1" strike="noStrike">
                <a:solidFill>
                  <a:srgbClr val="333333"/>
                </a:solidFill>
                <a:latin typeface="Papyrus"/>
              </a:rPr>
              <a:t>o</a:t>
            </a:r>
            <a:r>
              <a:rPr b="0" lang="en-US" sz="4000" spc="-1" strike="noStrike">
                <a:solidFill>
                  <a:srgbClr val="5f5f5f"/>
                </a:solidFill>
                <a:latin typeface="Papyrus"/>
              </a:rPr>
              <a:t>d </a:t>
            </a:r>
            <a:r>
              <a:rPr b="0" lang="en-US" sz="4000" spc="-1" strike="noStrike">
                <a:solidFill>
                  <a:srgbClr val="000000"/>
                </a:solidFill>
                <a:latin typeface="Papyrus"/>
              </a:rPr>
              <a:t>in its path </a:t>
            </a:r>
            <a:r>
              <a:rPr b="0" lang="en-US" sz="4000" spc="-1" strike="noStrike">
                <a:solidFill>
                  <a:srgbClr val="000000"/>
                </a:solidFill>
                <a:latin typeface="Papyru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Papyru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Papyrus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297180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pyrus"/>
              </a:rPr>
              <a:t>forev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fad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" dur="indefinite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363320" cy="76071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990720" y="2514600"/>
            <a:ext cx="815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The atmosphere reeked of smoldering flesh from the victims of white-hot chaos engulfing the </a:t>
            </a:r>
            <a:r>
              <a:rPr b="0" i="1" lang="en-US" sz="3200" spc="-1" strike="noStrike">
                <a:solidFill>
                  <a:srgbClr val="ffffff"/>
                </a:solidFill>
                <a:latin typeface="Papyrus"/>
              </a:rPr>
              <a:t>unsuspecting</a:t>
            </a: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 isl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457200" y="2743200"/>
            <a:ext cx="7924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457200"/>
            <a:ext cx="8534520" cy="496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Papyrus"/>
              </a:rPr>
              <a:t>Phosphorescent catastrophe saluted the Arizona, swallow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Papyru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Papyrus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Papyrus"/>
              </a:rPr>
              <a:t>10,000 leagues below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866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2209680" y="838080"/>
            <a:ext cx="67820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The scene was sepulchral in its self. Voices of the fallen were lifted on sound waves and played their somber  tunes on our eardru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-685800" y="0"/>
            <a:ext cx="12420720" cy="71629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-360" y="2819160"/>
            <a:ext cx="5715000" cy="23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Darkness cascaded around our vessel, signaling our destination and depar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4T01:19:44Z</dcterms:created>
  <dc:creator>Candace</dc:creator>
  <dc:description/>
  <dc:language>en-US</dc:language>
  <cp:lastModifiedBy>Candace</cp:lastModifiedBy>
  <dcterms:modified xsi:type="dcterms:W3CDTF">2008-02-29T11:51:53Z</dcterms:modified>
  <cp:revision>8</cp:revision>
  <dc:subject/>
  <dc:title>“Electric     Boy”</dc:title>
</cp:coreProperties>
</file>